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3CB9-74AB-4483-8971-E9285AA3B2D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he Internal Assessment Portfolio provides  students the opportunity to demonstrate understanding when they explain a topic, find evidence, generalize a problem, apply concepts and theories, and present their own perspective of a particular sit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1499-C6FC-4CEA-B69F-3DCBA061CB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92B-C20B-4504-A58F-79A41036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A4D-BBAA-440C-B12C-B753DA3E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781B4-EA4D-4832-A365-EFB5F0F5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7B024-5B59-49B8-8A29-B87BE2D0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2D09B-6F30-40F7-A198-14F068BE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4622A-198D-4064-8991-ABA98C0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0C76F-E84B-493F-9920-6CCDB060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7151F-8FD8-4F3C-9A62-5B676578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41223-BAF0-4E38-882F-DE2EF8A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1EC16-A824-4D76-A23E-6272B134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52057-17B3-497E-AB39-98261519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351-3CF7-4F6A-A41A-53F89131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6F9-7FA1-48B0-B54A-D84997CF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2EC6-C8C3-426E-A208-D3F538B6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5AD5-711B-444D-930C-73CA8A6B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DDB6-0D38-49C0-A2B0-2A6709B5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3740-B993-45A6-8233-7D51B055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B5D0-E1BE-4E85-897A-EFD7D894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9231-05C9-4CD1-A6DE-8DF5D125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9CDE-57C9-47B8-ACE2-2BF29BD4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E46-BD08-4D9C-857C-B2FF0E29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7948-7AB0-4FC3-9BB4-45C7A212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C47F-1EF4-4EB7-AAD8-745FFBA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6F25-2FDF-41A4-8D3D-2A311FE9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A44D-A9A4-4D59-87E4-48415397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0D90-7104-4A0F-97D3-81733601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1502-B9BE-4281-9DC2-B2CB1148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312C-83EB-4D36-AC73-F209A032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1675-9CE1-4E59-BE8E-857A501B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4BAC-6377-4647-9F00-96D27AC2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AA4EA-EA44-4240-A753-4F5FD6EE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DF5-4760-4AB9-81DB-0CDF3FA6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0F0A-F75D-4006-9B01-9D645DD3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9153-7B39-4624-B9E4-75F1B798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92EF-B6F1-4500-9E30-298B2634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C88E-F16A-48AF-BC08-B93535FB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99FA-4904-4178-A0BD-7F7DE015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516D9-E13F-4CC0-8BA7-492636B5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CC26-42B5-420E-B558-80E1A022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CD3BC-B417-4BE7-BF22-AEE6F2F9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B8AA-95BD-46E4-8F48-899B30B0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67A9F-FF31-4B0E-BCA3-E25BC564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AB8-5FFF-49B4-A372-AF2BC257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22144-69FB-4E82-99C1-5FE23FF6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4F57D-B017-49BF-B40A-B59F2142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C3B4B-5097-41F5-9FBA-6758627D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2641-CC61-4F7C-A5C7-5E28CB9C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CCB4-7232-4C6D-BAD1-6A7998F5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C8A5D-87EF-4705-AFE2-84503E7E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C205E-C31C-49F4-8FAB-02E1A1D5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4C84-C0A7-4513-B91A-0CEE35D8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99DF-2472-453D-9955-27AEB78B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08A95-A25D-40F9-8C1A-9CBE7F8D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9DC-C39D-48C4-AA53-69B3E96C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92D6-041D-478D-9D87-931BDFAA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5105-82CB-4EFC-AF26-4B30367C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5FEB5-3C48-42EA-8B3D-29C68A88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6217-0EAD-4D54-8731-3250D424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226CA-1027-4721-88A7-4A941C88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CBD60-7BA4-430E-9AE0-10D367AD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D089C-F289-439D-8752-3C55F86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768F3-D518-4E74-8A04-F2413B9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E12B3-283C-4B19-A638-7D45A2B0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9E498-EF46-4BFE-8777-9C0DD948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02E-FBE6-4EC3-8269-5E3AEC5F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57DE4-464F-4325-9BBA-2AD5721D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F01E8-6775-4AAE-B3F2-8F831C51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033FD-0006-4415-A5E7-1DE89EA7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E6CC-92E0-48DB-AC39-F9D1AE9B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58407-B3BD-48F3-A179-4BF41C36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DCCC1-916F-4342-B243-712F1BBC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D1A51-34CB-4A13-9AD0-EC211F18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7F796-48A6-4B9E-830F-03C5E66F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AD04-4B4C-4FB2-A6C8-9098532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FE7B3-D8E5-4E4B-8B9D-F46D517D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5D1-12CC-48C6-97EA-42FE8447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C7F28-64F4-4E5C-AD09-4A6F12AF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4AE63-FC3D-40A6-935A-35AFE1F6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6C78D-1322-4075-8F58-5884B566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C0901-9D42-4365-967C-048E470A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ADE47-FDD9-4803-B7CB-4D6733F8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456E2-EC56-442B-9BDA-D40B00EA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CF4C4-CC44-423A-BA2C-B3D97911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6FB5F-622D-44CE-B255-E1DAE5FB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30A2B-D81A-4372-99C4-DAB44758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22E65-F93A-4327-AAA3-8064DED3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05C-3751-488A-8B5F-241DED5B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DEA86-10DE-4904-9959-0F43AE84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D49E4-96E0-4E50-9772-767AFCD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16F65-CE78-4337-A7E3-F317AE03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574D6-7ED5-4EE5-AED9-65A5BBDD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4330F-CD28-499C-9FC8-EE04CA20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EC7B1-E8F8-49A5-805A-102A00C5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F827E-A1EB-4FFB-983C-E5A0663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9FD3D-10FF-4E2E-BFC1-C6FC6CBB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2AB37-284E-41F1-A0E5-38F1610F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BEC9F-608B-4DB0-9F6C-41B429C3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EB2-B2E3-4FCD-B9A2-E23E33D2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38D4F-124B-4637-8E60-92782853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1506D-F96F-49E5-A884-8C209F9D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8F670-BD71-44AA-8848-46262B33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49DB7-D0D6-4859-8449-726AF539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3E22F-B43C-429E-B5B5-74D46EED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65D9F-1F05-4778-8CF6-28F8D853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26B30-377C-4A8E-B3A9-677ED968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B1C6E-9D12-4D94-90BA-46256199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BE0C0-0B25-4B77-98B5-0828E30E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93EA6-7129-4E34-9471-DE932ED5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E7AE-E3B9-4ED6-AA06-91EB178CAF69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D190-02E1-44C2-875E-7B38609A525F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4156-DC2D-4C7E-9ECE-2EAECDFD4D9E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2173-42B4-4A0B-8A5F-0CC1331AF87C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2BCF-11AA-461E-B5F4-154A6279E0E8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562A-93C6-4C8D-890A-278404C5FF68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DB56-04DA-4F45-9D15-C2A225A0C014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2541-7E36-48D7-9E00-B03F4852A85A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6611-65DB-47BA-8C3D-D43E09077D90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youtube.com/watch?v=Lid47BS65bE&amp;feature=related" TargetMode="External"/><Relationship Id="rId3" Type="http://schemas.openxmlformats.org/officeDocument/2006/relationships/hyperlink" Target="http://www.youtube.com/watch?v=wwGPKm2VZEI&amp;NR=1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1 Título" descr=""/>
          <p:cNvPicPr/>
          <p:nvPr/>
        </p:nvPicPr>
        <p:blipFill>
          <a:blip r:embed="rId1"/>
          <a:stretch/>
        </p:blipFill>
        <p:spPr>
          <a:xfrm>
            <a:off x="353880" y="1206360"/>
            <a:ext cx="84661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242560" cy="16700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There are six skill levels in Bloom’s taxonomy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Knowledg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Comprehens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Applica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Analysi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Synthesi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Evalua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All these skills can be shown in your portfolio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he links below to learn more about Bloom’s Taxonom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://www.youtube.com/watch?v=Lid47BS65bE&amp;feature=relat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www.youtube.com/watch?v=wwGPKm2VZEI&amp;NR=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1309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riterion C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requires you to use appropriate economic terminology in your commentary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This requires that you provide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orrect definitions of economic terminology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(vocabulary) that is relevant to each commentary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You can define the terms within the text of the commentary or as footnotes throughou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-23760" y="-128520"/>
            <a:ext cx="9191520" cy="16891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3"/>
          <p:cNvSpPr/>
          <p:nvPr/>
        </p:nvSpPr>
        <p:spPr>
          <a:xfrm>
            <a:off x="0" y="142884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iterion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you to use diagrams effectively in your commenta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way to illustrate your understanding of important knowledge from the article, your comprehension of it in other words, i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 diagrams from appropriate models to explain your id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-23760" y="-79200"/>
            <a:ext cx="9191520" cy="1688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riterion D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requires you to apply economic theories and concepts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ow do you do th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Identify new examples related to the ideas in your commentar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Use formulas from appropriate models to clarify idea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Use facts from the article to expand explanation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1359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riterion D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also requires you to analyze economic theories and concept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ow do you do th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Identify cause and effect by explaining changes using appropriate diagram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Use facts from the article and examples from class to compare and contrast the content of your article with other real world situation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-23760" y="-79200"/>
            <a:ext cx="9191520" cy="1688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riterion D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: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ou can also satisfy this criterion by linking theory and evidenc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ow do you do th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dentify an actual event from the article that you have discussed in your commentary and compare/contrast the outcome to the outcome predicted by economic theor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ummarize your ideas and connect them in a conclusion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-23760" y="-79200"/>
            <a:ext cx="9191520" cy="1688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riterion D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: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ou can also satisfy this criterion by making judgments and prediction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ow do you do th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dentify a potential outcome that you would anticipate related to the article and explain how economic theory supports your prediction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valuate the effects of the events in your article on different stakeholders and the advantages and disadvantages of policies discuss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Question the validity of theory discussed in the article and prioritize your own argument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7:09:55Z</dcterms:created>
  <dc:creator>usuario</dc:creator>
  <dc:description/>
  <dc:language>en-US</dc:language>
  <cp:lastModifiedBy>p.hopkins_daa</cp:lastModifiedBy>
  <dcterms:modified xsi:type="dcterms:W3CDTF">2011-02-26T09:38:38Z</dcterms:modified>
  <cp:revision>64</cp:revision>
  <dc:subject/>
  <dc:title>Module II: Overview of the Internal Assessment Requirements</dc:title>
</cp:coreProperties>
</file>